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BC4-0F8C-4B10-AF72-5DA13364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8600-093E-4CBE-9671-52E5D8822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DC9-BECC-4A67-8825-3D639EA9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ECA-E0CB-4A6F-A58E-BACF0354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381-1A73-4864-98A1-EC9EAB5A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A24-292A-4602-A6C6-066A8386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8A5-866E-49AA-98B0-5C89613B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DDC0-E8B4-4EF8-A817-6CFB286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6D66-B642-4E7B-96C3-3E5D8989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58CE-B02C-4BB5-BBEC-7C0CE61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41B2-8924-4BC2-8271-31FB704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F06-627C-4DE2-9330-1A71941C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da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5D0-CB81-4135-AD94-2F00D7767ADA}" type="slidenum">
              <a:rPr b="0" lang="en-US" sz="1200" spc="-1" strike="noStrike">
                <a:solidFill>
                  <a:srgbClr val="8989d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Legalism: Ancient China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Engravers MT"/>
              </a:rPr>
              <a:t>Hanfeizi</a:t>
            </a:r>
            <a:endParaRPr b="0" lang="en-US" sz="60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Statement of Philosophy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Hanfeizi lived in the 200s B.C.E., an influential scholar, believed that people were basically corrupted and that the only way to ensure an orderly society was to enforce strict laws.  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Quotation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People become naturally spoiled by love, but are submissive to authority.  …that being so, rewards should be rich and certain so that the people will be attracted to them; punishments should be severe and definite so that the people will fear them; and laws should be uniform and steadfast so that the people will be familiar with them.”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For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Punishment should be uniform and steadfast.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Uniformity assures that everyone knows the law and what the punishment is for breaking it.</a:t>
            </a:r>
            <a:endParaRPr b="0" lang="en-US" sz="2800" spc="-1" strike="noStrike">
              <a:solidFill>
                <a:srgbClr val="0000cc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Everyone should be punished equally according to the law which avoids favoritism and corruption.  </a:t>
            </a:r>
            <a:endParaRPr b="0" lang="en-US" sz="2800" spc="-1" strike="noStrike">
              <a:solidFill>
                <a:srgbClr val="0000cc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alibri"/>
              </a:rPr>
              <a:t>The purpose  of punishment is to prevent the criminal from similar acts and will make a strong, lasting impression of the minds’ of others to avoid similar punishments. </a:t>
            </a:r>
            <a:endParaRPr b="0" lang="en-US" sz="28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Against” Argument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Punishment and methods of inflicting them ought to be chosen to make a strong and lasting impression, but inflict the least amount of torment on the criminal.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The goal is to reform the criminal.  Punishment should stop people from committing future crimes by showing them the error of their ways.  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Refute “Against” Argument</a:t>
            </a:r>
            <a:r>
              <a:rPr b="0" lang="en-US" sz="4400" spc="-1" strike="noStrike">
                <a:solidFill>
                  <a:srgbClr val="0000cc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Punishments should be swift and painful to stop people from committing future crimes.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Severe punishments cause people to fear them and fear is an effective method of stopping people from becoming repeat offenders.   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How is Legalism reflected today?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National, state, and local laws have uniform laws; however, state and local laws vary in their punishments for laws broken. Examples are capital punishment and length of time served for criminal acts.  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alibri"/>
              </a:rPr>
              <a:t>Summary </a:t>
            </a:r>
            <a:endParaRPr b="0" lang="en-US" sz="4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Punishment should be uniform and steadfast.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Punishments should be swift, painful and severe to deter future offenders.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  <a:p>
            <a:pPr marL="343080" indent="-343080">
              <a:buClr>
                <a:srgbClr val="0000c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alibri"/>
              </a:rPr>
              <a:t>We still have capital punishment and laws are uniform based on jurisdictions.</a:t>
            </a:r>
            <a:endParaRPr b="0" lang="en-US" sz="3200" spc="-1" strike="noStrike">
              <a:solidFill>
                <a:srgbClr val="0000c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8:32:05Z</dcterms:created>
  <dc:creator>Jenny Ann</dc:creator>
  <dc:description/>
  <dc:language>en-US</dc:language>
  <cp:lastModifiedBy>ECPS-User</cp:lastModifiedBy>
  <dcterms:modified xsi:type="dcterms:W3CDTF">2009-11-11T22:27:26Z</dcterms:modified>
  <cp:revision>11</cp:revision>
  <dc:subject/>
  <dc:title>Slide 1</dc:title>
</cp:coreProperties>
</file>